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E52E06-2F01-4BDA-85E5-22FE0F4FA56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579881-E3A0-49CC-B923-A21190067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21693F2-C44E-446E-BCBB-8F32ECDD0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5D25565-99CF-48D2-A7F8-D4C8153B2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7FE1E0A-E2B4-4D0F-8C4F-491CC487E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CCDDB92-CB7B-4797-900F-CA97B5B68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01C541B-64BC-4E20-8770-95BD18124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B289874-E3C7-4E7D-A295-742A818BC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9DE7F6F-0099-4CD7-B011-5CABC5DA8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EB1846D-46F0-4BE2-B6E0-B644963AD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214EDF8-D114-4F11-9010-A1F683B21E2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3A033A-1803-44F0-93AC-654244B91CE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DD4C25-0DC9-43A9-8EEA-52243EFCF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8D39B9-97CA-4B97-A542-1D73096C0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EF0C94-CE37-41CA-8E4D-4AEBF888C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212010-2FCE-4691-9EE3-53C001279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1E332B-1F1B-4ADE-9C42-29AB3D2A0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A48FDD-15A6-494B-B30C-77342EC15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DFB325-2659-4A84-A181-81DF677DF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E37C36-9BA5-4BC6-A266-D2E246B1C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6E7DBD-1281-4766-8CEF-1EC1F2E12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E916F6-3949-496A-BB4D-807EE396D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FD3621-036D-4520-B5B4-2CCFBCE79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1AD020-1BE5-41FA-83BD-F7BAA900F51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0DBCA7-24ED-4112-A9E3-67C59294DA3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69E6620-5680-4DB3-BE30-74B78A74428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FA09105-3AF0-4A30-9184-96DAEE88A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D608293-64DC-44D3-98E2-C986A95CF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E809E93-3EA3-4E68-AF65-7A7A8EABF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0EDDA8F-FECA-41B2-9C7D-E5B57ED42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A6A0F22-472D-49D3-93D2-A322DCFA9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9CF92A3-74AA-4320-ABDD-61D6ABFD7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4C6E2C2-3961-4C7A-9534-4BD80E156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693C6A0-E568-4268-90D7-879160DB0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A67562-BC8A-45DF-AC98-CBBFEBD0F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71DA3ED-6680-4675-9682-D9A6F973F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EAA34AD-26A8-4D20-985E-C63F4633E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F9B288D-7360-482A-9F1C-BC172C8ED25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3207872-233F-4ED4-A04A-622873100B7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6F923C3-BB15-44EA-A7C1-282BC1C83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9DB972E-44FC-472C-B292-0396421A6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C096C27-DE38-40B6-8EEE-FE5883CAF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70601C0-14DF-499F-BF90-7514130A3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C431F7D-E954-47B6-AACF-107096C24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0110A8F-D1DF-42D1-9245-6D7EE07A3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D97DDD-96F8-4A6B-BFE2-3451C1879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DB14E69-F795-492D-8C15-6D279282F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C739F59-80BE-48EE-8407-77055BA33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A660A5D-CC3A-4FAD-A5A6-5BDB638E0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3E301CB-E67E-48B5-B9DB-02A9B31C5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B170F28-DC9C-4FF0-A600-6F0A63D1C4C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FB2D96-BE15-40DC-A932-C6E02FA737B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EDBF69-B4B6-4E40-8553-DA9363004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85B247-C47D-4CD3-A844-34F849BAD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C8C05B-002B-43CE-AB7B-953133D14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06B778-4E90-430B-86A2-AC15FCBDE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89C63B-0499-4BE4-A98B-322727A5B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E1E6D8-2330-417B-A3FB-A65ECBFEE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D9DE07-96F4-4EEB-8A04-ED18B86E7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880AFE-D04D-4677-9B0E-244DBE3CA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234928-BA17-4226-8919-6199B2311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0944DF-CE43-4148-B4C8-E3870BD27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31B9E8-71F6-41C8-ABB8-AF7A679A7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84320B-5FD0-4BC1-BE07-0A35CD0E864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FA91B3-C76E-4818-BCDF-D0AAC024F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51E66E-286F-4C98-A1E0-5FD4E6B4D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4CBEF4-0D9A-4815-B12C-CE5CF6A85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A66E40-861A-4C9A-9FAE-ACB62823E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92265A-8629-4C2A-880C-5349C4A0A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7A54A0-25FB-4F41-BCD2-D604BA7DE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D73A65-A02F-490B-B62C-1E60F59DC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5D08A0-ABCF-432C-84B2-89D8BDF4F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EA7829-255A-486E-A7EA-3D705F5E5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F91429-21CD-42B9-B289-BBCB6422D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E8C262-8E3F-4908-A062-A93812A9E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213A61-0166-4207-A75E-A2126F1A6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5A5EEB-AE30-4584-9149-20F3C6D36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93D858-35A8-4C68-A630-AC1F6486E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81F901-CE27-48FB-93D3-2DBA798A2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087BE7-CE93-438C-8B82-D07CC9344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52E1E1-52FB-4F66-9752-851AFB944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856A28-FCE1-49D4-BA72-230E4A3CE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E85B7A-A3E5-47C4-851D-CD44781F9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4C2C50-D762-4667-B9FA-32B9F67D5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0C33EA-A321-4F66-ACEE-00AA61D04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738E62-3147-4611-A809-E383B2FA4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AA69F7-4999-49BF-B308-82EE7E5DA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524980-3D25-4062-93B2-49CB35859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FD948C-890F-486F-A78F-231858403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7F2968-AAD2-4684-A7C8-27C768AFF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16C349-3169-4DEF-8AD3-32D44DF02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DB416D-FBC4-4692-AFC6-28610CC29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4FC337-AB1E-4036-9D62-358DD1121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A06DD0-9572-4E57-BE9D-CF1C9043C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32F7F5-6846-468A-AA6E-9FFD7E78B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AFFBAD-EE5C-4AC5-A300-968A7DA01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FD1F44-71B1-4A01-AEC3-EF93E9459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BEFE41-4E0F-42F5-AFC6-5865D00E4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D78C17-C0F8-4BEE-97AF-986BE8020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52E6AD-7CC8-46B3-8626-6B1538943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3C72F4-3339-4C31-A49E-755D1077C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74011F-32A4-42FC-8E32-558A3C566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ECC456-2FD2-43B6-8515-0F2B90C1E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3E64EB-1C7D-4CB2-9046-6890BB46D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3EABC91-F1D9-4979-B552-EEB45F43E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D3C4693-898C-410C-9C8A-D2AE10DA9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3E263CC-3510-404B-BF19-251EC3F6C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7DC161D-FDB8-43B8-A7F5-E63717D73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415D352-BC9F-44E2-9D01-AC2C720D6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32F3C53-EEA8-407C-A7CD-088DFD775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88061D3-5443-4788-82A5-621B52C0F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140C09-0895-46EB-937F-D816649A4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B84EE1-29EC-4C05-94F6-14F5D7161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AC3AC5D-05E7-4E8B-8ABD-7CA561142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97B7797-DC07-47BE-BEC9-9C91862E0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E0E0FF3-B9CC-44D8-880E-70965C705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0275577-DCF3-42B6-8409-A9E37155A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18627A6-DAA3-400F-89E4-125CD00A6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73C1D81-5E48-4648-9969-23D4240ED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A6ACA54-F470-4685-9797-00624CF2B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B2F049D-8F28-4DC5-8DBA-891247813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77DEE79-33EA-4263-B7BF-15F7A09F1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89D919E-B0D5-429B-98DA-E15A71106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67FE15-93D4-4978-818C-CDAD1117D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68503F2-4B2C-4C72-898B-80BBDEF69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5E31B9A-0D37-4AEF-AE44-F9FEAF371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4F47D19-0397-42B2-8DC5-EB896BED5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41835AC-861F-460C-9C6D-85A974B09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034FEAF-56E3-46FB-B5F3-BA0B5F3EE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292912B-C70E-4D0D-8692-9E1FAF047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98FCA36-173A-49E0-8D19-F2274A247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893A5F3-A3EE-4DF7-893C-0A539215C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5AB41C7-D452-4E5B-B9BB-B1035A16B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B135379-BE17-4097-8DB1-9C60F2FDC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C54E16-08D9-42B4-BF68-40C12C9F7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6AE9A9F-3167-45A3-AE7C-4EBC3B331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E59BD1E-5DC2-4C27-8ABA-5C56368D0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0D69B3C-BFF3-4348-A25B-00AD83DAA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B034C2A-0E88-427E-A248-121BB3A1B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A8E0974-C82E-4C6A-92B7-2B54557CF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80027B3-AD24-4BF7-9673-C1289471A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349D668-D75C-4D68-8363-1A4CB69C8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3B92D91-C1B2-40A1-B92C-59520B253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8FD3CBA-F1CD-4FA4-B0FD-5632879B5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8F9FDDC-B6E8-4AF2-BF03-72436C836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D9B6E2-222F-4388-8DA0-1608B469A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863F5DE-8646-4A89-8139-863D64526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89024C7-0FBA-4093-8965-5D1C80F3C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5B4EFB7-7FB5-4740-8D1D-A6E132E95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9146587-D254-4544-80C5-9F359AAE0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1F06AFB-EB95-4532-8DD9-20C04220E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7DE840E-84B9-40EF-8A96-B81332E0D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63C01A7-14CA-4747-A3B4-F3C6E136A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42912AD-DBC4-4D34-98EE-73E604B00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3D099FB-B3DD-4749-9024-7436D9EA2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2B5B322-4C48-45EC-8389-633B2F518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B72D41-783B-43F8-906F-DBF1D7445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F0D26A2-B339-491E-8269-4FCBA7B12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EB49ED0-FA78-45A5-A6B4-26CEC32E3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B33CB7C-763D-4263-9840-EFA5895DA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28F1BCF-D20C-49DE-917B-459116485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EA04781-AADC-44E0-92EC-17A5E3AEE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A34E8BB-ECEB-4C94-AA59-9F60F0E52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C6EC9D7-FBA7-4218-815A-B3B16D817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0ED470B-DCED-4CF2-9C6E-F3F869EF7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7016032-9701-42D3-97F1-BBCA580C0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0C7DBAD-9317-4626-B098-07A3644D3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4696480-3AC1-400A-A737-A393E942DCC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0C4F010-74FB-47B1-AF1F-096D0D1FE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72822B0-E1D0-4BCA-B413-0C258E276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A09B309-9538-4461-81F8-58F95148B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A7CDF82-670C-4A50-AFED-9998FDB53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6EF384C-CC12-4A11-BAF8-B3A1EDFB4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BFEC7D5-6DC8-49A9-9479-CD8F82157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42C4D52-3ACB-4494-805D-F5A48831E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F18D831-3BC0-41E2-861D-9AA55B96D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409951C-D9DC-412D-B056-BFADAB0F8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3175393-E3E3-45A0-A689-E0E950D7F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BFA7CA5-6B54-4DBF-82A6-BA90C8BED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021764B-1515-46AF-851E-8B86E4154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1DE1132-1709-422F-BDD8-F5C76F62A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9D3ACE2-206D-4BE2-8B5C-412B4FDEA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54DACD9-4A34-4CE8-8A81-F84D2ED61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AD23E8F-6E3F-4B69-8867-84BA039DB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14031AD-000A-4E56-BFFA-1AB90E984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4A49CB9-73FC-4C02-AFBC-69B928615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A1A1F29-F188-4103-9277-198312D7F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39AE494-3FE5-4342-9B26-853BBDE2F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CCF8EEF-B0AD-48BD-983E-3DFC68C75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141B06F-4560-481D-BFF3-AD5201E33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4FE4F49-5DFA-4DCB-89BC-8EE4CFD38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E440135-2C51-4BCD-B459-1CABF5B2F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53DCB05-7844-458B-AB53-093A5F99A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64D97F1-7783-45B3-BB43-7314B46A3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CA605A3-E100-4665-A09C-C4C0F0AE1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5F6201A-FE79-4D46-B239-95145D6FF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4C307DC-EAF9-4983-80E2-75D7EAAAE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2B8F01B-1B9A-40AB-A210-459FF9051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911ED88-8384-4109-BAA3-5D45DDB1A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02A87C8-41F1-4E82-A9BB-BF5A5798F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778D983-DF92-454B-80F4-285EB7748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1EEBDA6-452D-4923-950F-4E7E72958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C4C6DA7-24A5-4F47-838B-53C5C8E49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AE7283B-44A3-4CD2-AF22-0EB5EED88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00FAFCD-4339-4AEC-B266-F5F8F21E4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62C6F97-13B2-4FE9-8AE2-6DD9EB9C5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0D5B7CD-3212-4687-8748-03A500F23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76D03D7-4B98-446D-9F19-8D30DB903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D2088ED-5A52-407E-A676-183B2550D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4BAF6B6-29E5-41AB-B0CF-97F3B4753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9E8BAD4-685B-41C4-8916-7DCF97611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78BB88-DEC7-4909-8DF3-50F95EF59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D28268E-0A3C-46A8-B66A-4AD35E2A8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EC8607E-CD2F-4917-84B4-694444BA3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F4B8371-83ED-41B8-9198-CBB3EEE7D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8030B84-3AFE-4557-B6F1-9B04797D0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F352912-21F5-453D-805D-DA987DEBF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6B67347-6C7A-4603-9D86-4770B0D4D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CFFA5DA-CFAB-49FA-8E39-6A46D7426CD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F0A030-19AD-44F8-8CEC-10F08BE1544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7CD48C-EE6E-4140-8D86-56295FE76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627650-AA3D-4686-BB75-8A836AFA3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E7BB3E-0202-4784-8528-C55E981AA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95D903-225E-465C-92F6-6C470B843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7A698C-F516-4848-A557-3DD0C5979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A78208-C46B-403A-BDA7-CFB2E6345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CF31EE-8A70-4DAC-A47F-C483A058D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6123ED-4C21-437F-9917-4B7B4D03E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6245FF-1387-4633-86FA-D9DD08B58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CEFB2B-1815-46D2-B404-6B612685F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CCA1C6-1043-47C1-8BAF-622EFFB66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A76E80-FC02-4C33-ABF6-9A1281F9E04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34FB42E-B83A-496E-B782-1929C4D42D7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480265-7139-4C93-A9AC-47309866F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618AE50-4E1C-48AA-8DB3-92BA9FE1C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8160C92-A536-4227-BCD5-E54B7387B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3A09EB2-EC97-40BF-9482-0034E7349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C354B23-643E-4B30-B687-7519A6CAD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5B07EB8-9FEF-4A7A-B206-547FA2E32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D6D7789-39C4-4345-B5DB-EBF5D4427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F3B4574-BA20-4073-919B-12696554C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44B8C82-2CEE-4233-BEAB-5AB38B11E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8DE8E7D-44CB-49C5-B2B0-3AC28FC09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A3FDBA5-A1EB-4D18-BE6F-D92CAAC93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4F4399-10D0-4278-87E5-C1FDA745D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478706E-AD2B-4D56-9B9F-913E44A530E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2076235-2BFD-4B44-9E8E-080C7CA528C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7112491-B2CF-4AA7-A5A8-290CC7515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F8D81DD-5D2F-4C54-9882-1F7F78CB6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9536709-866B-4DCA-84AC-20C523D86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0DEDD12-39D1-4800-BAE9-823A9508F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031F7E1-2059-465B-B615-8A1A90C72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5AB3339-FCC8-49B4-AEA3-25490370E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2DFD010-1DF1-4CDB-B7D5-515DBA1C1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2069D62-3F4D-4C09-85A3-B05961B09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3D5AD6-71DD-4F0E-A9E2-E48183C1E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1F77C20-346B-4546-8AA8-BC6F8CC29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0F60EE6-FA97-443A-B32E-3F0ED8EDB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5A43149-4DB4-43CF-A300-09A76616EEE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F9433F-2B97-4C55-9FC0-F74949E571E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01B660-6B6F-45E8-9D08-0AFF6672E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F1D338-70E8-4518-9EE5-FF546373D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9DED6D-2ABA-45D6-A461-52CEB8E11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265254-D416-4EDB-9DE1-C0377E5AC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000A89-11A3-44C0-A688-F8CC5A6F0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5264C5-DAEF-4879-AF0C-E96A880B2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2F8B4B-2CEE-4209-B60D-5DBDCE5C2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A8C478-F993-4B55-8AC8-B52948FFD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D1A772-0024-4356-9D6D-5F16CC415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5E3C98-8F6B-4961-AC0A-3C6B921B5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BB2B44-54FE-4937-AAC2-1F7485C8D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019C44-5BB2-4E69-8532-5C56F05608E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67E4BE4-FE61-4DFC-8CD2-C44B5131344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BFA5AB1-C842-4776-85C7-813A4BE21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F142A09-D588-4D5C-94CE-83D45CD08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A2F6108-9E30-4DC3-A12F-C0B464EC3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8B8B7FA-AE5D-4777-A853-B74E343F8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FF143D-083A-4A9D-95F1-1CBF9BA46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D8499D7-04CE-492E-A4AE-0026F0427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B37398E-1CE5-4C28-9932-2AB617101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6F76E58-6808-42E2-8595-2E10D70AC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FE1124D-9C81-45C0-8633-491B239E2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1E73A59-73CB-4154-99E9-47B51E09A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F042C63-8D61-4A28-9F91-8E9610757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B14F058-A72D-4580-B008-2B40D472C84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DDDDCDE-F723-4177-9F3B-39A37246077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5278B26-FB27-4CD0-9335-EDC9AA422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7930EF7-8DCE-47D2-8AD0-5F18FFC46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25601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1" name="组合 2560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2" name="椭圆 2560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椭圆 2560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椭圆 2560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椭圆 2560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椭圆 2560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2361B-E276-4662-A9DF-8CB931665B19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dt" idx="2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A83E3-E842-4031-9EA5-04A4E41467A5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sldNum" idx="2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7B271-79F1-4468-8FD4-0D4272A964EC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dt" idx="2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 type="sldNum" idx="2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AEC05-8E39-47F5-9985-BEA52ECB8951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2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6DC43-7BD4-4FD2-AF2A-27AD45976D67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 type="ftr" idx="2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7E120-1EA7-46BE-AED5-D8D2D402BF8D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 type="ftr" idx="3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B0C20-4B77-470F-8175-CFBDBA66F286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 type="ftr" idx="3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EF58B-3608-4E67-A691-DB110FB5AB47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 type="ftr" idx="3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91CB4-B716-43D4-8066-F346047C7634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 type="dt" idx="4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 type="ftr" idx="4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C5C5A-A2AE-46BC-A785-B168B8F62187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dt" idx="4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ftr" idx="4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15C2F-D16D-47D7-8B42-D56E87106432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图片 25601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48" name="组合 2560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49" name="椭圆 2560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椭圆 2560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椭圆 2560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椭圆 2560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椭圆 2560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6C9E2-2695-4A70-AE3C-414A34891292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 type="dt" idx="4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 type="ftr" idx="4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3BBE1-1E1B-4587-8CEA-D256AA606689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4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1A4A8-4948-4C9A-9621-117BC02B2953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 type="dt" idx="5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 type="ftr" idx="5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A5A2E-AB9F-4EEA-8083-DA35520547E3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 type="dt" idx="5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 type="ftr" idx="5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37F5A-B611-4734-88CE-A35764F442E7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 type="dt" idx="5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 type="ftr" idx="5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4C81D-66B5-4444-8E93-ACB3A6BE008C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7D151-B445-4CEE-99D5-BF9157996BBF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40C1A-2F21-4E04-88AC-D2E5BBE2D971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E72F4-8FAD-4F29-9787-E45948F0D115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sldNum" idx="1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FB8DC-9763-4B08-8F08-F0919BED2926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0ADE6-7FA0-4B09-A740-1BD1AACA1019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sldNum" idx="1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54240-5EF2-4FC7-973C-A30B18913A71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dt" idx="1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 type="sldNum" idx="1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28929-7EE5-482A-AF89-D2214AD5EB02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TextBox 2"/>
          <p:cNvSpPr/>
          <p:nvPr/>
        </p:nvSpPr>
        <p:spPr>
          <a:xfrm>
            <a:off x="5286240" y="-3240"/>
            <a:ext cx="38592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二年级数学上册（</a:t>
            </a:r>
            <a:r>
              <a:rPr b="1" lang="en-US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RJ</a:t>
            </a:r>
            <a:r>
              <a:rPr b="1" lang="zh-CN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）    教学课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Oval 5"/>
          <p:cNvSpPr/>
          <p:nvPr/>
        </p:nvSpPr>
        <p:spPr>
          <a:xfrm>
            <a:off x="2924280" y="2911320"/>
            <a:ext cx="557280" cy="46224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Rectangle 6"/>
          <p:cNvSpPr/>
          <p:nvPr/>
        </p:nvSpPr>
        <p:spPr>
          <a:xfrm>
            <a:off x="333360" y="2862360"/>
            <a:ext cx="8445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  </a:t>
            </a:r>
            <a:r>
              <a:rPr b="0" lang="en-US" sz="3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课时    表 内 乘 法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9" name=""/>
          <p:cNvGrpSpPr/>
          <p:nvPr/>
        </p:nvGrpSpPr>
        <p:grpSpPr>
          <a:xfrm>
            <a:off x="2306160" y="2400480"/>
            <a:ext cx="6490080" cy="56880"/>
            <a:chOff x="2306160" y="2400480"/>
            <a:chExt cx="6490080" cy="56880"/>
          </a:xfrm>
        </p:grpSpPr>
        <p:sp>
          <p:nvSpPr>
            <p:cNvPr id="990" name="Line 10"/>
            <p:cNvSpPr/>
            <p:nvPr/>
          </p:nvSpPr>
          <p:spPr>
            <a:xfrm flipV="1">
              <a:off x="2306520" y="2400480"/>
              <a:ext cx="6489720" cy="56880"/>
            </a:xfrm>
            <a:prstGeom prst="line">
              <a:avLst/>
            </a:prstGeom>
            <a:ln w="57240">
              <a:solidFill>
                <a:srgbClr val="13c4c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"/>
            <p:cNvSpPr txBox="1"/>
            <p:nvPr/>
          </p:nvSpPr>
          <p:spPr>
            <a:xfrm rot="10800000">
              <a:off x="2306160" y="2400120"/>
              <a:ext cx="6489720" cy="56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2" name="Rectangle 7"/>
          <p:cNvSpPr/>
          <p:nvPr/>
        </p:nvSpPr>
        <p:spPr>
          <a:xfrm>
            <a:off x="0" y="1757520"/>
            <a:ext cx="2440080" cy="71424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Oval 8"/>
          <p:cNvSpPr/>
          <p:nvPr/>
        </p:nvSpPr>
        <p:spPr>
          <a:xfrm>
            <a:off x="2317680" y="1746360"/>
            <a:ext cx="381240" cy="42552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Rectangle 11"/>
          <p:cNvSpPr/>
          <p:nvPr/>
        </p:nvSpPr>
        <p:spPr>
          <a:xfrm>
            <a:off x="2330280" y="1859040"/>
            <a:ext cx="357480" cy="59508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Oval 8"/>
          <p:cNvSpPr/>
          <p:nvPr/>
        </p:nvSpPr>
        <p:spPr>
          <a:xfrm>
            <a:off x="2317680" y="1746360"/>
            <a:ext cx="382680" cy="42552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Rectangle 11"/>
          <p:cNvSpPr/>
          <p:nvPr/>
        </p:nvSpPr>
        <p:spPr>
          <a:xfrm>
            <a:off x="2330280" y="1859040"/>
            <a:ext cx="357480" cy="59508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Rectangle 9"/>
          <p:cNvSpPr/>
          <p:nvPr/>
        </p:nvSpPr>
        <p:spPr>
          <a:xfrm>
            <a:off x="-1886040" y="1730520"/>
            <a:ext cx="910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 </a:t>
            </a: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9 </a:t>
            </a: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元       </a:t>
            </a: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总 复 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8" name="组合 8"/>
          <p:cNvGrpSpPr/>
          <p:nvPr/>
        </p:nvGrpSpPr>
        <p:grpSpPr>
          <a:xfrm>
            <a:off x="1071720" y="1284120"/>
            <a:ext cx="1214280" cy="1471680"/>
            <a:chOff x="1071720" y="1284120"/>
            <a:chExt cx="1214280" cy="1471680"/>
          </a:xfrm>
        </p:grpSpPr>
        <p:sp>
          <p:nvSpPr>
            <p:cNvPr id="999" name="椭圆 3"/>
            <p:cNvSpPr/>
            <p:nvPr/>
          </p:nvSpPr>
          <p:spPr>
            <a:xfrm>
              <a:off x="1071720" y="1284120"/>
              <a:ext cx="425520" cy="453960"/>
            </a:xfrm>
            <a:prstGeom prst="ellipse">
              <a:avLst/>
            </a:prstGeom>
            <a:noFill/>
            <a:ln w="1260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椭圆 4"/>
            <p:cNvSpPr/>
            <p:nvPr/>
          </p:nvSpPr>
          <p:spPr>
            <a:xfrm>
              <a:off x="1860480" y="1284120"/>
              <a:ext cx="425520" cy="453960"/>
            </a:xfrm>
            <a:prstGeom prst="ellipse">
              <a:avLst/>
            </a:prstGeom>
            <a:noFill/>
            <a:ln w="1260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椭圆 5"/>
            <p:cNvSpPr/>
            <p:nvPr/>
          </p:nvSpPr>
          <p:spPr>
            <a:xfrm>
              <a:off x="1436760" y="1822320"/>
              <a:ext cx="423720" cy="455400"/>
            </a:xfrm>
            <a:prstGeom prst="ellipse">
              <a:avLst/>
            </a:prstGeom>
            <a:noFill/>
            <a:ln w="1260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椭圆 6"/>
            <p:cNvSpPr/>
            <p:nvPr/>
          </p:nvSpPr>
          <p:spPr>
            <a:xfrm>
              <a:off x="1071720" y="2301840"/>
              <a:ext cx="425520" cy="453960"/>
            </a:xfrm>
            <a:prstGeom prst="ellipse">
              <a:avLst/>
            </a:prstGeom>
            <a:noFill/>
            <a:ln w="1260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椭圆 7"/>
            <p:cNvSpPr/>
            <p:nvPr/>
          </p:nvSpPr>
          <p:spPr>
            <a:xfrm>
              <a:off x="1860480" y="2301840"/>
              <a:ext cx="425520" cy="453960"/>
            </a:xfrm>
            <a:prstGeom prst="ellipse">
              <a:avLst/>
            </a:prstGeom>
            <a:noFill/>
            <a:ln w="1260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4" name="组合 9"/>
          <p:cNvGrpSpPr/>
          <p:nvPr/>
        </p:nvGrpSpPr>
        <p:grpSpPr>
          <a:xfrm>
            <a:off x="3000240" y="1284120"/>
            <a:ext cx="1214640" cy="1471680"/>
            <a:chOff x="3000240" y="1284120"/>
            <a:chExt cx="1214640" cy="1471680"/>
          </a:xfrm>
        </p:grpSpPr>
        <p:sp>
          <p:nvSpPr>
            <p:cNvPr id="1005" name="椭圆 10"/>
            <p:cNvSpPr/>
            <p:nvPr/>
          </p:nvSpPr>
          <p:spPr>
            <a:xfrm>
              <a:off x="3000240" y="1284120"/>
              <a:ext cx="425520" cy="453960"/>
            </a:xfrm>
            <a:prstGeom prst="ellipse">
              <a:avLst/>
            </a:prstGeom>
            <a:noFill/>
            <a:ln w="1260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椭圆 11"/>
            <p:cNvSpPr/>
            <p:nvPr/>
          </p:nvSpPr>
          <p:spPr>
            <a:xfrm>
              <a:off x="3789360" y="1284120"/>
              <a:ext cx="425520" cy="453960"/>
            </a:xfrm>
            <a:prstGeom prst="ellipse">
              <a:avLst/>
            </a:prstGeom>
            <a:noFill/>
            <a:ln w="1260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椭圆 12"/>
            <p:cNvSpPr/>
            <p:nvPr/>
          </p:nvSpPr>
          <p:spPr>
            <a:xfrm>
              <a:off x="3365280" y="1822320"/>
              <a:ext cx="423720" cy="455400"/>
            </a:xfrm>
            <a:prstGeom prst="ellipse">
              <a:avLst/>
            </a:prstGeom>
            <a:noFill/>
            <a:ln w="1260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椭圆 13"/>
            <p:cNvSpPr/>
            <p:nvPr/>
          </p:nvSpPr>
          <p:spPr>
            <a:xfrm>
              <a:off x="3000240" y="2301840"/>
              <a:ext cx="425520" cy="453960"/>
            </a:xfrm>
            <a:prstGeom prst="ellipse">
              <a:avLst/>
            </a:prstGeom>
            <a:noFill/>
            <a:ln w="1260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椭圆 14"/>
            <p:cNvSpPr/>
            <p:nvPr/>
          </p:nvSpPr>
          <p:spPr>
            <a:xfrm>
              <a:off x="3789360" y="2301840"/>
              <a:ext cx="425520" cy="453960"/>
            </a:xfrm>
            <a:prstGeom prst="ellipse">
              <a:avLst/>
            </a:prstGeom>
            <a:noFill/>
            <a:ln w="1260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0" name="组合 15"/>
          <p:cNvGrpSpPr/>
          <p:nvPr/>
        </p:nvGrpSpPr>
        <p:grpSpPr>
          <a:xfrm>
            <a:off x="5000760" y="1284120"/>
            <a:ext cx="1214280" cy="1471680"/>
            <a:chOff x="5000760" y="1284120"/>
            <a:chExt cx="1214280" cy="1471680"/>
          </a:xfrm>
        </p:grpSpPr>
        <p:sp>
          <p:nvSpPr>
            <p:cNvPr id="1011" name="椭圆 16"/>
            <p:cNvSpPr/>
            <p:nvPr/>
          </p:nvSpPr>
          <p:spPr>
            <a:xfrm>
              <a:off x="5000760" y="1284120"/>
              <a:ext cx="425520" cy="453960"/>
            </a:xfrm>
            <a:prstGeom prst="ellipse">
              <a:avLst/>
            </a:prstGeom>
            <a:noFill/>
            <a:ln w="1260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椭圆 17"/>
            <p:cNvSpPr/>
            <p:nvPr/>
          </p:nvSpPr>
          <p:spPr>
            <a:xfrm>
              <a:off x="5789520" y="1284120"/>
              <a:ext cx="425520" cy="453960"/>
            </a:xfrm>
            <a:prstGeom prst="ellipse">
              <a:avLst/>
            </a:prstGeom>
            <a:noFill/>
            <a:ln w="1260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椭圆 18"/>
            <p:cNvSpPr/>
            <p:nvPr/>
          </p:nvSpPr>
          <p:spPr>
            <a:xfrm>
              <a:off x="5365800" y="1822320"/>
              <a:ext cx="423720" cy="455400"/>
            </a:xfrm>
            <a:prstGeom prst="ellipse">
              <a:avLst/>
            </a:prstGeom>
            <a:noFill/>
            <a:ln w="1260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椭圆 19"/>
            <p:cNvSpPr/>
            <p:nvPr/>
          </p:nvSpPr>
          <p:spPr>
            <a:xfrm>
              <a:off x="5000760" y="2301840"/>
              <a:ext cx="425520" cy="453960"/>
            </a:xfrm>
            <a:prstGeom prst="ellipse">
              <a:avLst/>
            </a:prstGeom>
            <a:noFill/>
            <a:ln w="1260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椭圆 20"/>
            <p:cNvSpPr/>
            <p:nvPr/>
          </p:nvSpPr>
          <p:spPr>
            <a:xfrm>
              <a:off x="5789520" y="2301840"/>
              <a:ext cx="425520" cy="453960"/>
            </a:xfrm>
            <a:prstGeom prst="ellipse">
              <a:avLst/>
            </a:prstGeom>
            <a:noFill/>
            <a:ln w="1260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6" name="组合 21"/>
          <p:cNvGrpSpPr/>
          <p:nvPr/>
        </p:nvGrpSpPr>
        <p:grpSpPr>
          <a:xfrm>
            <a:off x="7000920" y="1284120"/>
            <a:ext cx="1214280" cy="1471680"/>
            <a:chOff x="7000920" y="1284120"/>
            <a:chExt cx="1214280" cy="1471680"/>
          </a:xfrm>
        </p:grpSpPr>
        <p:sp>
          <p:nvSpPr>
            <p:cNvPr id="1017" name="椭圆 22"/>
            <p:cNvSpPr/>
            <p:nvPr/>
          </p:nvSpPr>
          <p:spPr>
            <a:xfrm>
              <a:off x="7000920" y="1284120"/>
              <a:ext cx="425520" cy="453960"/>
            </a:xfrm>
            <a:prstGeom prst="ellipse">
              <a:avLst/>
            </a:prstGeom>
            <a:noFill/>
            <a:ln w="1260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椭圆 23"/>
            <p:cNvSpPr/>
            <p:nvPr/>
          </p:nvSpPr>
          <p:spPr>
            <a:xfrm>
              <a:off x="7789680" y="1284120"/>
              <a:ext cx="425520" cy="453960"/>
            </a:xfrm>
            <a:prstGeom prst="ellipse">
              <a:avLst/>
            </a:prstGeom>
            <a:noFill/>
            <a:ln w="1260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椭圆 24"/>
            <p:cNvSpPr/>
            <p:nvPr/>
          </p:nvSpPr>
          <p:spPr>
            <a:xfrm>
              <a:off x="7365960" y="1822320"/>
              <a:ext cx="423720" cy="455400"/>
            </a:xfrm>
            <a:prstGeom prst="ellipse">
              <a:avLst/>
            </a:prstGeom>
            <a:noFill/>
            <a:ln w="1260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椭圆 25"/>
            <p:cNvSpPr/>
            <p:nvPr/>
          </p:nvSpPr>
          <p:spPr>
            <a:xfrm>
              <a:off x="7000920" y="2301840"/>
              <a:ext cx="425520" cy="453960"/>
            </a:xfrm>
            <a:prstGeom prst="ellipse">
              <a:avLst/>
            </a:prstGeom>
            <a:noFill/>
            <a:ln w="1260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椭圆 26"/>
            <p:cNvSpPr/>
            <p:nvPr/>
          </p:nvSpPr>
          <p:spPr>
            <a:xfrm>
              <a:off x="7789680" y="2301840"/>
              <a:ext cx="425520" cy="453960"/>
            </a:xfrm>
            <a:prstGeom prst="ellipse">
              <a:avLst/>
            </a:prstGeom>
            <a:noFill/>
            <a:ln w="1260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2" name="矩形 27"/>
          <p:cNvSpPr/>
          <p:nvPr/>
        </p:nvSpPr>
        <p:spPr>
          <a:xfrm>
            <a:off x="785880" y="3143160"/>
            <a:ext cx="7004160" cy="66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问：求一共有多少个，用加法计算怎样列式？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矩形 28"/>
          <p:cNvSpPr/>
          <p:nvPr/>
        </p:nvSpPr>
        <p:spPr>
          <a:xfrm>
            <a:off x="2060640" y="3929040"/>
            <a:ext cx="3754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5+5+5+5=20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（个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5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×</a:t>
            </a: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4=20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（个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4" name="组合 2"/>
          <p:cNvGrpSpPr/>
          <p:nvPr/>
        </p:nvGrpSpPr>
        <p:grpSpPr>
          <a:xfrm>
            <a:off x="-23760" y="46080"/>
            <a:ext cx="2504880" cy="525600"/>
            <a:chOff x="-23760" y="46080"/>
            <a:chExt cx="2504880" cy="525600"/>
          </a:xfrm>
        </p:grpSpPr>
        <p:pic>
          <p:nvPicPr>
            <p:cNvPr id="1025" name="圆角矩形 47" descr=""/>
            <p:cNvPicPr/>
            <p:nvPr/>
          </p:nvPicPr>
          <p:blipFill>
            <a:blip r:embed="rId1"/>
            <a:stretch/>
          </p:blipFill>
          <p:spPr>
            <a:xfrm>
              <a:off x="86040" y="46080"/>
              <a:ext cx="239508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26" name="组合 4"/>
            <p:cNvGrpSpPr/>
            <p:nvPr/>
          </p:nvGrpSpPr>
          <p:grpSpPr>
            <a:xfrm>
              <a:off x="-23760" y="141120"/>
              <a:ext cx="329760" cy="273960"/>
              <a:chOff x="-23760" y="141120"/>
              <a:chExt cx="329760" cy="273960"/>
            </a:xfrm>
          </p:grpSpPr>
          <p:sp>
            <p:nvSpPr>
              <p:cNvPr id="1027" name="椭圆 52"/>
              <p:cNvSpPr/>
              <p:nvPr/>
            </p:nvSpPr>
            <p:spPr>
              <a:xfrm rot="16200000">
                <a:off x="199440" y="293040"/>
                <a:ext cx="86040" cy="109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28" name="椭圆 57" descr=""/>
              <p:cNvPicPr/>
              <p:nvPr/>
            </p:nvPicPr>
            <p:blipFill>
              <a:blip r:embed="rId2"/>
              <a:stretch/>
            </p:blipFill>
            <p:spPr>
              <a:xfrm>
                <a:off x="112680" y="284400"/>
                <a:ext cx="193320" cy="12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29" name="椭圆 58"/>
              <p:cNvSpPr/>
              <p:nvPr/>
            </p:nvSpPr>
            <p:spPr>
              <a:xfrm rot="16200000">
                <a:off x="199440" y="182880"/>
                <a:ext cx="86040" cy="109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30" name="椭圆 61" descr=""/>
              <p:cNvPicPr/>
              <p:nvPr/>
            </p:nvPicPr>
            <p:blipFill>
              <a:blip r:embed="rId3"/>
              <a:stretch/>
            </p:blipFill>
            <p:spPr>
              <a:xfrm>
                <a:off x="112680" y="157320"/>
                <a:ext cx="193320" cy="127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31" name="圆角矩形 62" descr=""/>
              <p:cNvPicPr/>
              <p:nvPr/>
            </p:nvPicPr>
            <p:blipFill>
              <a:blip r:embed="rId4"/>
              <a:stretch/>
            </p:blipFill>
            <p:spPr>
              <a:xfrm>
                <a:off x="-23760" y="302760"/>
                <a:ext cx="261000" cy="112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32" name="圆角矩形 66" descr=""/>
              <p:cNvPicPr/>
              <p:nvPr/>
            </p:nvPicPr>
            <p:blipFill>
              <a:blip r:embed="rId5"/>
              <a:stretch/>
            </p:blipFill>
            <p:spPr>
              <a:xfrm>
                <a:off x="-23760" y="270720"/>
                <a:ext cx="261000" cy="112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33" name="圆角矩形 67" descr=""/>
              <p:cNvPicPr/>
              <p:nvPr/>
            </p:nvPicPr>
            <p:blipFill>
              <a:blip r:embed="rId6"/>
              <a:stretch/>
            </p:blipFill>
            <p:spPr>
              <a:xfrm>
                <a:off x="-23760" y="172800"/>
                <a:ext cx="261000" cy="112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34" name="圆角矩形 70" descr=""/>
              <p:cNvPicPr/>
              <p:nvPr/>
            </p:nvPicPr>
            <p:blipFill>
              <a:blip r:embed="rId7"/>
              <a:stretch/>
            </p:blipFill>
            <p:spPr>
              <a:xfrm>
                <a:off x="-23760" y="141120"/>
                <a:ext cx="261000" cy="1123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矩形 1"/>
          <p:cNvSpPr/>
          <p:nvPr/>
        </p:nvSpPr>
        <p:spPr>
          <a:xfrm>
            <a:off x="142920" y="1076400"/>
            <a:ext cx="8572320" cy="29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四七（       ）        八（       ）七十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（       ）八二十四     六九（       ）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五（       ）三十      （       ）八五十六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7×9=         6×7=      5×4=       3×6=                              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4×6=         4×9=      6×8=       5×9=                   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矩形 12"/>
          <p:cNvSpPr/>
          <p:nvPr/>
        </p:nvSpPr>
        <p:spPr>
          <a:xfrm>
            <a:off x="1500120" y="1225440"/>
            <a:ext cx="1143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0000"/>
                </a:solidFill>
                <a:latin typeface="宋体"/>
                <a:ea typeface="宋体"/>
              </a:rPr>
              <a:t>二十八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矩形 13"/>
          <p:cNvSpPr/>
          <p:nvPr/>
        </p:nvSpPr>
        <p:spPr>
          <a:xfrm>
            <a:off x="5129280" y="1225440"/>
            <a:ext cx="714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0000"/>
                </a:solidFill>
                <a:latin typeface="宋体"/>
                <a:ea typeface="宋体"/>
              </a:rPr>
              <a:t>九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矩形 14"/>
          <p:cNvSpPr/>
          <p:nvPr/>
        </p:nvSpPr>
        <p:spPr>
          <a:xfrm>
            <a:off x="971640" y="1790640"/>
            <a:ext cx="714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0000"/>
                </a:solidFill>
                <a:latin typeface="宋体"/>
                <a:ea typeface="宋体"/>
              </a:rPr>
              <a:t>三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矩形 15"/>
          <p:cNvSpPr/>
          <p:nvPr/>
        </p:nvSpPr>
        <p:spPr>
          <a:xfrm>
            <a:off x="5137200" y="1801800"/>
            <a:ext cx="12142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0000"/>
                </a:solidFill>
                <a:latin typeface="宋体"/>
                <a:ea typeface="宋体"/>
              </a:rPr>
              <a:t>五十四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矩形 16"/>
          <p:cNvSpPr/>
          <p:nvPr/>
        </p:nvSpPr>
        <p:spPr>
          <a:xfrm>
            <a:off x="1511280" y="2373480"/>
            <a:ext cx="4287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0000"/>
                </a:solidFill>
                <a:latin typeface="宋体"/>
                <a:ea typeface="宋体"/>
              </a:rPr>
              <a:t>六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矩形 17"/>
          <p:cNvSpPr/>
          <p:nvPr/>
        </p:nvSpPr>
        <p:spPr>
          <a:xfrm>
            <a:off x="4835520" y="2382840"/>
            <a:ext cx="4287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0000"/>
                </a:solidFill>
                <a:latin typeface="宋体"/>
                <a:ea typeface="宋体"/>
              </a:rPr>
              <a:t>七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矩形 18"/>
          <p:cNvSpPr/>
          <p:nvPr/>
        </p:nvSpPr>
        <p:spPr>
          <a:xfrm>
            <a:off x="1285920" y="2965320"/>
            <a:ext cx="5713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63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矩形 19"/>
          <p:cNvSpPr/>
          <p:nvPr/>
        </p:nvSpPr>
        <p:spPr>
          <a:xfrm>
            <a:off x="3571920" y="2930400"/>
            <a:ext cx="5713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4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矩形 20"/>
          <p:cNvSpPr/>
          <p:nvPr/>
        </p:nvSpPr>
        <p:spPr>
          <a:xfrm>
            <a:off x="5319720" y="2975040"/>
            <a:ext cx="5713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2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矩形 21"/>
          <p:cNvSpPr/>
          <p:nvPr/>
        </p:nvSpPr>
        <p:spPr>
          <a:xfrm>
            <a:off x="7140600" y="2965320"/>
            <a:ext cx="5713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18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矩形 22"/>
          <p:cNvSpPr/>
          <p:nvPr/>
        </p:nvSpPr>
        <p:spPr>
          <a:xfrm>
            <a:off x="1359000" y="3505320"/>
            <a:ext cx="5713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2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矩形 23"/>
          <p:cNvSpPr/>
          <p:nvPr/>
        </p:nvSpPr>
        <p:spPr>
          <a:xfrm>
            <a:off x="3532320" y="3505320"/>
            <a:ext cx="5713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36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矩形 24"/>
          <p:cNvSpPr/>
          <p:nvPr/>
        </p:nvSpPr>
        <p:spPr>
          <a:xfrm>
            <a:off x="5319720" y="3505320"/>
            <a:ext cx="5713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48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矩形 25"/>
          <p:cNvSpPr/>
          <p:nvPr/>
        </p:nvSpPr>
        <p:spPr>
          <a:xfrm>
            <a:off x="7143840" y="3505320"/>
            <a:ext cx="5713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4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0" name="组合 2"/>
          <p:cNvGrpSpPr/>
          <p:nvPr/>
        </p:nvGrpSpPr>
        <p:grpSpPr>
          <a:xfrm>
            <a:off x="-23760" y="46080"/>
            <a:ext cx="3479760" cy="525600"/>
            <a:chOff x="-23760" y="46080"/>
            <a:chExt cx="3479760" cy="525600"/>
          </a:xfrm>
        </p:grpSpPr>
        <p:pic>
          <p:nvPicPr>
            <p:cNvPr id="1051" name="圆角矩形 47" descr=""/>
            <p:cNvPicPr/>
            <p:nvPr/>
          </p:nvPicPr>
          <p:blipFill>
            <a:blip r:embed="rId1"/>
            <a:stretch/>
          </p:blipFill>
          <p:spPr>
            <a:xfrm>
              <a:off x="139680" y="46080"/>
              <a:ext cx="331632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52" name="组合 4"/>
            <p:cNvGrpSpPr/>
            <p:nvPr/>
          </p:nvGrpSpPr>
          <p:grpSpPr>
            <a:xfrm>
              <a:off x="-23760" y="141120"/>
              <a:ext cx="461880" cy="273960"/>
              <a:chOff x="-23760" y="141120"/>
              <a:chExt cx="461880" cy="273960"/>
            </a:xfrm>
          </p:grpSpPr>
          <p:sp>
            <p:nvSpPr>
              <p:cNvPr id="1053" name="椭圆 52"/>
              <p:cNvSpPr/>
              <p:nvPr/>
            </p:nvSpPr>
            <p:spPr>
              <a:xfrm rot="16200000">
                <a:off x="225000" y="303840"/>
                <a:ext cx="100080" cy="1224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54" name="椭圆 57" descr=""/>
              <p:cNvPicPr/>
              <p:nvPr/>
            </p:nvPicPr>
            <p:blipFill>
              <a:blip r:embed="rId2"/>
              <a:stretch/>
            </p:blipFill>
            <p:spPr>
              <a:xfrm>
                <a:off x="221400" y="261360"/>
                <a:ext cx="216720" cy="10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5" name="椭圆 58"/>
              <p:cNvSpPr/>
              <p:nvPr/>
            </p:nvSpPr>
            <p:spPr>
              <a:xfrm rot="16200000">
                <a:off x="225000" y="175320"/>
                <a:ext cx="100080" cy="1224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56" name="椭圆 61" descr=""/>
              <p:cNvPicPr/>
              <p:nvPr/>
            </p:nvPicPr>
            <p:blipFill>
              <a:blip r:embed="rId3"/>
              <a:stretch/>
            </p:blipFill>
            <p:spPr>
              <a:xfrm>
                <a:off x="221400" y="154800"/>
                <a:ext cx="216720" cy="107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57" name="圆角矩形 62" descr=""/>
              <p:cNvPicPr/>
              <p:nvPr/>
            </p:nvPicPr>
            <p:blipFill>
              <a:blip r:embed="rId4"/>
              <a:stretch/>
            </p:blipFill>
            <p:spPr>
              <a:xfrm>
                <a:off x="-23760" y="276480"/>
                <a:ext cx="387360" cy="94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58" name="圆角矩形 66" descr=""/>
              <p:cNvPicPr/>
              <p:nvPr/>
            </p:nvPicPr>
            <p:blipFill>
              <a:blip r:embed="rId5"/>
              <a:stretch/>
            </p:blipFill>
            <p:spPr>
              <a:xfrm>
                <a:off x="-23760" y="249840"/>
                <a:ext cx="387360" cy="94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59" name="圆角矩形 67" descr=""/>
              <p:cNvPicPr/>
              <p:nvPr/>
            </p:nvPicPr>
            <p:blipFill>
              <a:blip r:embed="rId6"/>
              <a:stretch/>
            </p:blipFill>
            <p:spPr>
              <a:xfrm>
                <a:off x="-23760" y="167760"/>
                <a:ext cx="387360" cy="94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60" name="圆角矩形 70" descr=""/>
              <p:cNvPicPr/>
              <p:nvPr/>
            </p:nvPicPr>
            <p:blipFill>
              <a:blip r:embed="rId7"/>
              <a:stretch/>
            </p:blipFill>
            <p:spPr>
              <a:xfrm>
                <a:off x="-23760" y="141120"/>
                <a:ext cx="387360" cy="943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5-04T09:15:00Z</dcterms:created>
  <dc:creator/>
  <dc:description/>
  <dc:language>en-US</dc:language>
  <cp:lastModifiedBy>万润仪器贸易公司</cp:lastModifiedBy>
  <dcterms:modified xsi:type="dcterms:W3CDTF">2020-08-21T00:45:38Z</dcterms:modified>
  <cp:revision>1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